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7640" y="452520"/>
            <a:ext cx="8190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468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883320"/>
            <a:ext cx="73468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7640" y="452520"/>
            <a:ext cx="8190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585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9280" y="1523880"/>
            <a:ext cx="3585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883320"/>
            <a:ext cx="3585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9280" y="3883320"/>
            <a:ext cx="3585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7640" y="452520"/>
            <a:ext cx="8190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3655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8760" y="1523880"/>
            <a:ext cx="23655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82760" y="1523880"/>
            <a:ext cx="23655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883320"/>
            <a:ext cx="23655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8760" y="3883320"/>
            <a:ext cx="23655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82760" y="3883320"/>
            <a:ext cx="23655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452520"/>
            <a:ext cx="8190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34688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452520"/>
            <a:ext cx="8190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468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7640" y="452520"/>
            <a:ext cx="8190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585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9280" y="1523880"/>
            <a:ext cx="3585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452520"/>
            <a:ext cx="8190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47640" y="452520"/>
            <a:ext cx="8190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7640" y="452520"/>
            <a:ext cx="8190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585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9280" y="1523880"/>
            <a:ext cx="3585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883320"/>
            <a:ext cx="3585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7640" y="452520"/>
            <a:ext cx="8190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585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523880"/>
            <a:ext cx="3585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9280" y="3883320"/>
            <a:ext cx="3585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7640" y="452520"/>
            <a:ext cx="8190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585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523880"/>
            <a:ext cx="3585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883320"/>
            <a:ext cx="73468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62120" y="1219320"/>
          <a:ext cx="7696080" cy="511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219320"/>
                    <a:ext cx="7696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452520"/>
            <a:ext cx="8190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3468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7240" indent="-23724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lvl="1" marL="586800" indent="-25200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lvl="2" marL="68400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lvl="3" marL="78120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华文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lvl="4" marL="87840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华文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lvl="5" marL="87840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华文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lvl="6" marL="87840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华文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25.xml"/><Relationship Id="rId12" Type="http://schemas.openxmlformats.org/officeDocument/2006/relationships/slide" Target="slide25.xml"/><Relationship Id="rId13" Type="http://schemas.openxmlformats.org/officeDocument/2006/relationships/slide" Target="slide25.xml"/><Relationship Id="rId1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3152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6600"/>
                </a:solidFill>
                <a:latin typeface="Arial"/>
                <a:ea typeface="黑体"/>
              </a:rPr>
              <a:t>第</a:t>
            </a:r>
            <a:r>
              <a:rPr b="1" lang="zh-CN" sz="3800" spc="-1" strike="noStrike">
                <a:solidFill>
                  <a:srgbClr val="cc6600"/>
                </a:solidFill>
                <a:latin typeface="Arial"/>
                <a:ea typeface="Arial"/>
              </a:rPr>
              <a:t>5</a:t>
            </a:r>
            <a:r>
              <a:rPr b="1" lang="zh-CN" sz="3800" spc="-1" strike="noStrike">
                <a:solidFill>
                  <a:srgbClr val="cc6600"/>
                </a:solidFill>
                <a:latin typeface="Arial"/>
                <a:ea typeface="黑体"/>
              </a:rPr>
              <a:t>章</a:t>
            </a:r>
            <a:r>
              <a:rPr b="1" lang="zh-CN" sz="3800" spc="-1" strike="noStrike">
                <a:solidFill>
                  <a:srgbClr val="cc6600"/>
                </a:solidFill>
                <a:latin typeface="Arial"/>
                <a:ea typeface="Arial"/>
              </a:rPr>
              <a:t>  </a:t>
            </a:r>
            <a:r>
              <a:rPr b="1" lang="zh-CN" sz="3800" spc="-1" strike="noStrike">
                <a:solidFill>
                  <a:srgbClr val="cc6600"/>
                </a:solidFill>
                <a:latin typeface="Arial"/>
                <a:ea typeface="黑体"/>
              </a:rPr>
              <a:t>多媒体与动画操作</a:t>
            </a:r>
            <a:r>
              <a:rPr b="1" lang="zh-CN" sz="3400" spc="-1" strike="noStrike">
                <a:solidFill>
                  <a:srgbClr val="cc6600"/>
                </a:solidFill>
                <a:latin typeface="Arial"/>
                <a:ea typeface="Arial"/>
              </a:rPr>
              <a:t>	</a:t>
            </a:r>
            <a:endParaRPr b="1" lang="en-US" sz="34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5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本章要点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>
              <a:lnSpc>
                <a:spcPct val="15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00"/>
                </a:solidFill>
                <a:uFillTx/>
                <a:latin typeface="Wingdings"/>
                <a:ea typeface="Wingdings"/>
                <a:hlinkClick r:id="rId1" action="ppaction://hlinksldjump"/>
              </a:rPr>
              <a:t>Ø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Wingdings"/>
                <a:ea typeface="宋体"/>
                <a:hlinkClick r:id="rId2" action="ppaction://hlinksldjump"/>
              </a:rPr>
              <a:t> 5.1  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Wingdings"/>
                <a:ea typeface="宋体"/>
                <a:hlinkClick r:id="rId3" action="ppaction://hlinksldjump"/>
              </a:rPr>
              <a:t>动画控件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Wingdings"/>
                <a:ea typeface="宋体"/>
                <a:hlinkClick r:id="rId4" action="ppaction://hlinksldjump"/>
              </a:rPr>
              <a:t>Animate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Wingdings"/>
                <a:ea typeface="宋体"/>
                <a:hlinkClick r:id="rId5" action="ppaction://hlinksldjump"/>
              </a:rPr>
              <a:t>的使用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>
              <a:lnSpc>
                <a:spcPct val="15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00"/>
                </a:solidFill>
                <a:uFillTx/>
                <a:latin typeface="Wingdings"/>
                <a:ea typeface="Wingdings"/>
                <a:hlinkClick r:id="rId6" action="ppaction://hlinksldjump"/>
              </a:rPr>
              <a:t>Ø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Wingdings"/>
                <a:ea typeface="宋体"/>
                <a:hlinkClick r:id="rId7" action="ppaction://hlinksldjump"/>
              </a:rPr>
              <a:t> 5.2  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Wingdings"/>
                <a:ea typeface="宋体"/>
                <a:hlinkClick r:id="rId8" action="ppaction://hlinksldjump"/>
              </a:rPr>
              <a:t>多媒体控件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Wingdings"/>
                <a:ea typeface="宋体"/>
                <a:hlinkClick r:id="rId9" action="ppaction://hlinksldjump"/>
              </a:rPr>
              <a:t>MediaPlayer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Wingdings"/>
                <a:ea typeface="宋体"/>
                <a:hlinkClick r:id="rId10" action="ppaction://hlinksldjump"/>
              </a:rPr>
              <a:t>的使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>
              <a:lnSpc>
                <a:spcPct val="15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00"/>
                </a:solidFill>
                <a:uFillTx/>
                <a:latin typeface="Wingdings"/>
                <a:ea typeface="Wingdings"/>
                <a:hlinkClick r:id="rId11" action="ppaction://hlinksldjump"/>
              </a:rPr>
              <a:t>Ø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Wingdings"/>
                <a:ea typeface="宋体"/>
                <a:hlinkClick r:id="rId12" action="ppaction://hlinksldjump"/>
              </a:rPr>
              <a:t> 5.3　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Wingdings"/>
                <a:ea typeface="宋体"/>
                <a:hlinkClick r:id="rId13" action="ppaction://hlinksldjump"/>
              </a:rPr>
              <a:t>制作图片浏览器实例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438280" y="1981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inEdi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控件的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676520" y="2971800"/>
            <a:ext cx="5405400" cy="1790640"/>
            <a:chOff x="1676520" y="2971800"/>
            <a:chExt cx="5405400" cy="1790640"/>
          </a:xfrm>
        </p:grpSpPr>
        <p:grpSp>
          <p:nvGrpSpPr>
            <p:cNvPr id="102" name=""/>
            <p:cNvGrpSpPr/>
            <p:nvPr/>
          </p:nvGrpSpPr>
          <p:grpSpPr>
            <a:xfrm>
              <a:off x="1681200" y="2976480"/>
              <a:ext cx="5396040" cy="1781280"/>
              <a:chOff x="1681200" y="2976480"/>
              <a:chExt cx="5396040" cy="178128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1681200" y="2976480"/>
                <a:ext cx="2219400" cy="593640"/>
                <a:chOff x="1681200" y="2976480"/>
                <a:chExt cx="2219400" cy="5936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749600" y="2976480"/>
                  <a:ext cx="20826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681200" y="2976480"/>
                  <a:ext cx="2219400" cy="593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900600" y="2976480"/>
                <a:ext cx="3176640" cy="593640"/>
                <a:chOff x="3900600" y="2976480"/>
                <a:chExt cx="3176640" cy="5936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968640" y="2976480"/>
                  <a:ext cx="30402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900600" y="2976480"/>
                  <a:ext cx="3176640" cy="593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681200" y="3570120"/>
                <a:ext cx="2219400" cy="593640"/>
                <a:chOff x="1681200" y="3570120"/>
                <a:chExt cx="2219400" cy="593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749600" y="3570120"/>
                  <a:ext cx="20826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cr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81200" y="3570120"/>
                  <a:ext cx="2219400" cy="593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900600" y="3570120"/>
                <a:ext cx="3176640" cy="593640"/>
                <a:chOff x="3900600" y="3570120"/>
                <a:chExt cx="3176640" cy="5936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968640" y="3570120"/>
                  <a:ext cx="30402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900600" y="3570120"/>
                  <a:ext cx="3176640" cy="593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681200" y="4163760"/>
                <a:ext cx="2219400" cy="594000"/>
                <a:chOff x="1681200" y="4163760"/>
                <a:chExt cx="2219400" cy="5940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749600" y="4163760"/>
                  <a:ext cx="20826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inval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681200" y="4163760"/>
                  <a:ext cx="2219400" cy="59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3900600" y="4163760"/>
                <a:ext cx="3176640" cy="594000"/>
                <a:chOff x="3900600" y="4163760"/>
                <a:chExt cx="3176640" cy="5940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3968640" y="4163760"/>
                  <a:ext cx="30402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900600" y="4163760"/>
                  <a:ext cx="3176640" cy="59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" name=""/>
            <p:cNvSpPr/>
            <p:nvPr/>
          </p:nvSpPr>
          <p:spPr>
            <a:xfrm>
              <a:off x="1676520" y="2971800"/>
              <a:ext cx="5405400" cy="179064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90920" y="1523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3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stBo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控件的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90720" y="2286000"/>
            <a:ext cx="7086240" cy="3553560"/>
            <a:chOff x="990720" y="2286000"/>
            <a:chExt cx="7086240" cy="3553560"/>
          </a:xfrm>
        </p:grpSpPr>
        <p:grpSp>
          <p:nvGrpSpPr>
            <p:cNvPr id="124" name=""/>
            <p:cNvGrpSpPr/>
            <p:nvPr/>
          </p:nvGrpSpPr>
          <p:grpSpPr>
            <a:xfrm>
              <a:off x="996840" y="2297160"/>
              <a:ext cx="7072920" cy="3529080"/>
              <a:chOff x="996840" y="2297160"/>
              <a:chExt cx="7072920" cy="35290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996840" y="2297160"/>
                <a:ext cx="2671560" cy="1433880"/>
                <a:chOff x="996840" y="2297160"/>
                <a:chExt cx="2671560" cy="14338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087200" y="2297160"/>
                  <a:ext cx="2491200" cy="14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6840" y="2297160"/>
                  <a:ext cx="2671560" cy="1433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668760" y="2297160"/>
                <a:ext cx="4401000" cy="1433880"/>
                <a:chOff x="3668760" y="2297160"/>
                <a:chExt cx="4401000" cy="1433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759120" y="2297160"/>
                  <a:ext cx="4219920" cy="14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668760" y="2297160"/>
                  <a:ext cx="4401000" cy="1433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996840" y="3731760"/>
                <a:ext cx="2671560" cy="2094480"/>
                <a:chOff x="996840" y="3731760"/>
                <a:chExt cx="2671560" cy="20944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087200" y="3731760"/>
                  <a:ext cx="2491200" cy="20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tems.String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996840" y="3731760"/>
                  <a:ext cx="2671560" cy="2094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668760" y="3731760"/>
                <a:ext cx="4401000" cy="2094480"/>
                <a:chOff x="3668760" y="3731760"/>
                <a:chExt cx="4401000" cy="20944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59120" y="3731760"/>
                  <a:ext cx="4219920" cy="20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‘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[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se an AVI File]’  ‘Find Folder’  ‘Find File’  ‘Find Computer’  ‘Copy Files’  ‘Copy File’  ‘Recycle File’  ‘Empty Recycle’  ‘Delete File’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668760" y="3731760"/>
                  <a:ext cx="4401000" cy="2094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990720" y="2286000"/>
              <a:ext cx="7086240" cy="355356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62320" y="1523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penDialo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控件的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47920" y="2438280"/>
            <a:ext cx="6324120" cy="2868480"/>
            <a:chOff x="1447920" y="2438280"/>
            <a:chExt cx="6324120" cy="2868480"/>
          </a:xfrm>
        </p:grpSpPr>
        <p:grpSp>
          <p:nvGrpSpPr>
            <p:cNvPr id="140" name=""/>
            <p:cNvGrpSpPr/>
            <p:nvPr/>
          </p:nvGrpSpPr>
          <p:grpSpPr>
            <a:xfrm>
              <a:off x="1453680" y="2443680"/>
              <a:ext cx="6311520" cy="2856240"/>
              <a:chOff x="1453680" y="2443680"/>
              <a:chExt cx="6311520" cy="28562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1453680" y="2443680"/>
                <a:ext cx="2334960" cy="713520"/>
                <a:chOff x="1453680" y="2443680"/>
                <a:chExt cx="2334960" cy="713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42240" y="2443680"/>
                  <a:ext cx="215820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453680" y="2443680"/>
                  <a:ext cx="2334960" cy="713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789000" y="2443680"/>
                <a:ext cx="3976200" cy="713520"/>
                <a:chOff x="3789000" y="2443680"/>
                <a:chExt cx="3976200" cy="713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877560" y="2443680"/>
                  <a:ext cx="379908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789000" y="2443680"/>
                  <a:ext cx="3976200" cy="713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453680" y="3157560"/>
                <a:ext cx="2334960" cy="713520"/>
                <a:chOff x="1453680" y="3157560"/>
                <a:chExt cx="2334960" cy="7135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542240" y="3157560"/>
                  <a:ext cx="215820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efaultEx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453680" y="3157560"/>
                  <a:ext cx="2334960" cy="713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3789000" y="3157560"/>
                <a:ext cx="3976200" cy="713520"/>
                <a:chOff x="3789000" y="3157560"/>
                <a:chExt cx="3976200" cy="7135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877560" y="3157560"/>
                  <a:ext cx="379908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vi’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789000" y="3157560"/>
                  <a:ext cx="3976200" cy="713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453680" y="3871800"/>
                <a:ext cx="2334960" cy="714240"/>
                <a:chOff x="1453680" y="3871800"/>
                <a:chExt cx="2334960" cy="714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542240" y="3871800"/>
                  <a:ext cx="215820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p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453680" y="3871800"/>
                  <a:ext cx="2334960" cy="714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789000" y="3871800"/>
                <a:ext cx="3976200" cy="714240"/>
                <a:chOff x="3789000" y="3871800"/>
                <a:chExt cx="3976200" cy="7142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877560" y="3871800"/>
                  <a:ext cx="379908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[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fPathMustExist , ofFileMustExist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789000" y="3871800"/>
                  <a:ext cx="3976200" cy="714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453680" y="4586400"/>
                <a:ext cx="2334960" cy="713520"/>
                <a:chOff x="1453680" y="4586400"/>
                <a:chExt cx="2334960" cy="7135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542240" y="4586400"/>
                  <a:ext cx="215820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il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453680" y="4586400"/>
                  <a:ext cx="2334960" cy="713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789000" y="4586400"/>
                <a:ext cx="3976200" cy="713520"/>
                <a:chOff x="3789000" y="4586400"/>
                <a:chExt cx="3976200" cy="7135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877560" y="4586400"/>
                  <a:ext cx="379908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VI file (*.avi)|*.avi ‘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789000" y="4586400"/>
                  <a:ext cx="3976200" cy="713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1447920" y="2438280"/>
              <a:ext cx="6324120" cy="286848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楷体_GB2312"/>
              </a:rPr>
              <a:t>．各个方法的实现代码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当用户第一次运行这个程序时，希望列表框中的有一个默认选项被选中。一般不希望是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Use an AVI File]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选项</a:t>
            </a:r>
            <a:r>
              <a:rPr b="1" lang="zh-CN" sz="2400" spc="-1" strike="noStrike">
                <a:solidFill>
                  <a:srgbClr val="000000"/>
                </a:solidFill>
                <a:latin typeface="MS Sans Serif"/>
                <a:ea typeface="宋体"/>
              </a:rPr>
              <a:t>，所以将第二项作为缺省选项。这一要求可以通过窗体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OnCreate</a:t>
            </a:r>
            <a:r>
              <a:rPr b="1" lang="zh-CN" sz="2400" spc="-1" strike="noStrike">
                <a:solidFill>
                  <a:srgbClr val="000000"/>
                </a:solidFill>
                <a:latin typeface="MS Sans Serif"/>
                <a:ea typeface="宋体"/>
              </a:rPr>
              <a:t>事件来实现，为了告诉用户这个动画所拥有的动画帧数，可以调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Animate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FrameCount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属性来设置“帧数”标签的值。因为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Animate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控件没有提供现成的方法。我们可以使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Seek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方法，用一个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Downto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型的循环语句来实现。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638280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655344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5.2  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多媒体控件</a:t>
            </a:r>
            <a:r>
              <a:rPr b="1" lang="en-US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MediaPlayer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的使用</a:t>
            </a: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053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6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5.2.1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多媒体控件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MediaPlayer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功能简介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-279360">
              <a:lnSpc>
                <a:spcPct val="16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5.2.2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MediaPlayer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控件制作一个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VCD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播放程序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0280" y="456840"/>
            <a:ext cx="727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5.2.1  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多媒体控件</a:t>
            </a:r>
            <a:r>
              <a:rPr b="1" lang="en-US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MediaPlayer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功能简介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4688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MediaPlayer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控件不仅可以播放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AVI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文件，还可以通过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MCI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播放很多媒体文件，比如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WAV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MIDI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音乐文件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DAT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文件。它位于控件板的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System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页中，如图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5-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73" name=""/>
          <p:cNvSpPr/>
          <p:nvPr/>
        </p:nvSpPr>
        <p:spPr>
          <a:xfrm>
            <a:off x="20620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3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746784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05120" y="5562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diaP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件的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6000" y="638280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47640" y="452520"/>
            <a:ext cx="8190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5.2.2  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使用</a:t>
            </a:r>
            <a:r>
              <a:rPr b="1" lang="en-US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MediaPlayer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控件制作一个</a:t>
            </a:r>
            <a:r>
              <a:rPr b="1" lang="en-US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VCD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播放程序</a:t>
            </a: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120" y="1774440"/>
            <a:ext cx="6172200" cy="39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．向窗体中添加控件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其窗体及控件布局如图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5-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所示）。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．主要控件分析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．为控件添加代码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057400" y="51814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窗体与控件的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5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7656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33352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6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467840" cy="1123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4876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diaP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380880" y="684360"/>
            <a:ext cx="8381880" cy="5868360"/>
            <a:chOff x="380880" y="684360"/>
            <a:chExt cx="8381880" cy="5868360"/>
          </a:xfrm>
        </p:grpSpPr>
        <p:grpSp>
          <p:nvGrpSpPr>
            <p:cNvPr id="186" name=""/>
            <p:cNvGrpSpPr/>
            <p:nvPr/>
          </p:nvGrpSpPr>
          <p:grpSpPr>
            <a:xfrm>
              <a:off x="387720" y="689040"/>
              <a:ext cx="8366760" cy="5857560"/>
              <a:chOff x="387720" y="689040"/>
              <a:chExt cx="8366760" cy="585756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387720" y="689040"/>
                <a:ext cx="1451880" cy="633960"/>
                <a:chOff x="387720" y="689040"/>
                <a:chExt cx="1451880" cy="6339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88880" y="689040"/>
                  <a:ext cx="124920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名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87720" y="689040"/>
                  <a:ext cx="145188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1839960" y="689040"/>
                <a:ext cx="1444320" cy="633960"/>
                <a:chOff x="1839960" y="689040"/>
                <a:chExt cx="1444320" cy="6339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940760" y="689040"/>
                  <a:ext cx="124272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按钮代号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839960" y="689040"/>
                  <a:ext cx="144432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284640" y="689040"/>
                <a:ext cx="5469840" cy="633960"/>
                <a:chOff x="3284640" y="689040"/>
                <a:chExt cx="5469840" cy="6339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385800" y="689040"/>
                  <a:ext cx="526716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作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284640" y="689040"/>
                  <a:ext cx="546984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87720" y="1323360"/>
                <a:ext cx="1451880" cy="633960"/>
                <a:chOff x="387720" y="1323360"/>
                <a:chExt cx="1451880" cy="6339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88880" y="1323360"/>
                  <a:ext cx="124920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la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87720" y="1323360"/>
                  <a:ext cx="145188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839960" y="1323360"/>
                <a:ext cx="1444320" cy="633960"/>
                <a:chOff x="1839960" y="1323360"/>
                <a:chExt cx="1444320" cy="6339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940760" y="1323360"/>
                  <a:ext cx="124272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tPla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39960" y="1323360"/>
                  <a:ext cx="144432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3284640" y="1323360"/>
                <a:ext cx="5469840" cy="633960"/>
                <a:chOff x="3284640" y="1323360"/>
                <a:chExt cx="5469840" cy="6339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385800" y="1323360"/>
                  <a:ext cx="526716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开始播放多媒体文件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284640" y="1323360"/>
                  <a:ext cx="546984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87720" y="1958040"/>
                <a:ext cx="1451880" cy="780480"/>
                <a:chOff x="387720" y="1958040"/>
                <a:chExt cx="1451880" cy="7804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88880" y="1958040"/>
                  <a:ext cx="1249200" cy="78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au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87720" y="1958040"/>
                  <a:ext cx="1451880" cy="780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839960" y="1958040"/>
                <a:ext cx="1444320" cy="780480"/>
                <a:chOff x="1839960" y="1958040"/>
                <a:chExt cx="1444320" cy="7804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940760" y="1958040"/>
                  <a:ext cx="1242720" cy="78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tPau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839960" y="1958040"/>
                  <a:ext cx="1444320" cy="780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284640" y="1958040"/>
                <a:ext cx="5469840" cy="780480"/>
                <a:chOff x="3284640" y="1958040"/>
                <a:chExt cx="5469840" cy="7804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385800" y="1958040"/>
                  <a:ext cx="5267160" cy="78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如果正在播放或录音，则暂停播放或录音，如果已经停止了，则重新开始播放或录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284640" y="1958040"/>
                  <a:ext cx="5469840" cy="780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87720" y="2738880"/>
                <a:ext cx="1451880" cy="633960"/>
                <a:chOff x="387720" y="2738880"/>
                <a:chExt cx="1451880" cy="6339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88880" y="2738880"/>
                  <a:ext cx="124920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to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7720" y="2738880"/>
                  <a:ext cx="145188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1839960" y="2738880"/>
                <a:ext cx="1444320" cy="633960"/>
                <a:chOff x="1839960" y="2738880"/>
                <a:chExt cx="1444320" cy="6339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1940760" y="2738880"/>
                  <a:ext cx="124272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tSto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839960" y="2738880"/>
                  <a:ext cx="144432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284640" y="2738880"/>
                <a:ext cx="5469840" cy="633960"/>
                <a:chOff x="3284640" y="2738880"/>
                <a:chExt cx="5469840" cy="6339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385800" y="2738880"/>
                  <a:ext cx="526716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停止播放与录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84640" y="2738880"/>
                  <a:ext cx="546984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87720" y="3373560"/>
                <a:ext cx="1451880" cy="633960"/>
                <a:chOff x="387720" y="3373560"/>
                <a:chExt cx="1451880" cy="6339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88880" y="3373560"/>
                  <a:ext cx="124920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rev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87720" y="3373560"/>
                  <a:ext cx="145188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839960" y="3373560"/>
                <a:ext cx="1444320" cy="633960"/>
                <a:chOff x="1839960" y="3373560"/>
                <a:chExt cx="1444320" cy="6339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940760" y="3373560"/>
                  <a:ext cx="124272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tPrev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839960" y="3373560"/>
                  <a:ext cx="144432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3284640" y="3373560"/>
                <a:ext cx="5469840" cy="633960"/>
                <a:chOff x="3284640" y="3373560"/>
                <a:chExt cx="5469840" cy="6339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385800" y="3373560"/>
                  <a:ext cx="526716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跳到上一个音轨，如果此多媒体不支持音轨，则跳到文件的开始处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284640" y="3373560"/>
                  <a:ext cx="546984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387720" y="4008240"/>
                <a:ext cx="1451880" cy="634320"/>
                <a:chOff x="387720" y="4008240"/>
                <a:chExt cx="1451880" cy="6343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88880" y="4008240"/>
                  <a:ext cx="1249200" cy="63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te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87720" y="4008240"/>
                  <a:ext cx="1451880" cy="634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839960" y="4008240"/>
                <a:ext cx="1444320" cy="634320"/>
                <a:chOff x="1839960" y="4008240"/>
                <a:chExt cx="1444320" cy="6343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940760" y="4008240"/>
                  <a:ext cx="1242720" cy="63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tSte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839960" y="4008240"/>
                  <a:ext cx="1444320" cy="634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284640" y="4008240"/>
                <a:ext cx="5469840" cy="634320"/>
                <a:chOff x="3284640" y="4008240"/>
                <a:chExt cx="5469840" cy="6343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3385800" y="4008240"/>
                  <a:ext cx="5267160" cy="63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向前跳过一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284640" y="4008240"/>
                  <a:ext cx="5469840" cy="634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387720" y="4643280"/>
                <a:ext cx="1451880" cy="633960"/>
                <a:chOff x="387720" y="4643280"/>
                <a:chExt cx="1451880" cy="6339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488880" y="4643280"/>
                  <a:ext cx="124920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ac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87720" y="4643280"/>
                  <a:ext cx="145188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1839960" y="4643280"/>
                <a:ext cx="1444320" cy="633960"/>
                <a:chOff x="1839960" y="4643280"/>
                <a:chExt cx="1444320" cy="633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940760" y="4643280"/>
                  <a:ext cx="124272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tBac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839960" y="4643280"/>
                  <a:ext cx="144432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84640" y="4643280"/>
                <a:ext cx="5469840" cy="633960"/>
                <a:chOff x="3284640" y="4643280"/>
                <a:chExt cx="5469840" cy="6339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385800" y="4643280"/>
                  <a:ext cx="526716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向后跳过一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84640" y="4643280"/>
                  <a:ext cx="546984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87720" y="5277960"/>
                <a:ext cx="1451880" cy="633960"/>
                <a:chOff x="387720" y="5277960"/>
                <a:chExt cx="1451880" cy="6339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88880" y="5277960"/>
                  <a:ext cx="124920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ecor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87720" y="5277960"/>
                  <a:ext cx="145188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1839960" y="5277960"/>
                <a:ext cx="1444320" cy="633960"/>
                <a:chOff x="1839960" y="5277960"/>
                <a:chExt cx="1444320" cy="6339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1940760" y="5277960"/>
                  <a:ext cx="124272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tRecor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839960" y="5277960"/>
                  <a:ext cx="144432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3284640" y="5277960"/>
                <a:ext cx="5469840" cy="633960"/>
                <a:chOff x="3284640" y="5277960"/>
                <a:chExt cx="5469840" cy="6339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385800" y="5277960"/>
                  <a:ext cx="526716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开始录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284640" y="5277960"/>
                  <a:ext cx="546984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87720" y="5912640"/>
                <a:ext cx="1451880" cy="633960"/>
                <a:chOff x="387720" y="5912640"/>
                <a:chExt cx="1451880" cy="6339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88880" y="5912640"/>
                  <a:ext cx="124920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je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87720" y="5912640"/>
                  <a:ext cx="145188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839960" y="5912640"/>
                <a:ext cx="1444320" cy="633960"/>
                <a:chOff x="1839960" y="5912640"/>
                <a:chExt cx="1444320" cy="6339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940760" y="5912640"/>
                  <a:ext cx="124272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tEje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839960" y="5912640"/>
                  <a:ext cx="144432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284640" y="5912640"/>
                <a:ext cx="5469840" cy="633960"/>
                <a:chOff x="3284640" y="5912640"/>
                <a:chExt cx="5469840" cy="6339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385800" y="5912640"/>
                  <a:ext cx="5267160" cy="63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弹出媒体文件（比如说弹出光盘）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284640" y="5912640"/>
                  <a:ext cx="5469840" cy="633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380880" y="684360"/>
              <a:ext cx="8381880" cy="586836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491920" y="152280"/>
            <a:ext cx="35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-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ediaPlay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控件的按钮功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本章要点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6225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动画控件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Animate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的功能说明及其使用。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多媒体控件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MediaPlayer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的功能说明及其使用。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  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Image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控件制作图片浏览器。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762120" y="1219320"/>
            <a:ext cx="7467120" cy="5105160"/>
            <a:chOff x="762120" y="1219320"/>
            <a:chExt cx="7467120" cy="5105160"/>
          </a:xfrm>
        </p:grpSpPr>
        <p:grpSp>
          <p:nvGrpSpPr>
            <p:cNvPr id="271" name=""/>
            <p:cNvGrpSpPr/>
            <p:nvPr/>
          </p:nvGrpSpPr>
          <p:grpSpPr>
            <a:xfrm>
              <a:off x="768600" y="1223640"/>
              <a:ext cx="7452720" cy="5095440"/>
              <a:chOff x="768600" y="1223640"/>
              <a:chExt cx="7452720" cy="509544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768600" y="1223640"/>
                <a:ext cx="3764880" cy="551880"/>
                <a:chOff x="768600" y="1223640"/>
                <a:chExt cx="3764880" cy="551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866160" y="1223640"/>
                  <a:ext cx="356904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68600" y="1223640"/>
                  <a:ext cx="3764880" cy="55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533840" y="1223640"/>
                <a:ext cx="3687480" cy="551880"/>
                <a:chOff x="4533840" y="1223640"/>
                <a:chExt cx="3687480" cy="5518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631400" y="1223640"/>
                  <a:ext cx="349164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533840" y="1223640"/>
                  <a:ext cx="3687480" cy="55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68600" y="1775520"/>
                <a:ext cx="3764880" cy="551880"/>
                <a:chOff x="768600" y="1775520"/>
                <a:chExt cx="3764880" cy="5518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66160" y="1775520"/>
                  <a:ext cx="356904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utoEnab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68600" y="1775520"/>
                  <a:ext cx="3764880" cy="55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4533840" y="1775520"/>
                <a:ext cx="3687480" cy="551880"/>
                <a:chOff x="4533840" y="1775520"/>
                <a:chExt cx="3687480" cy="5518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631400" y="1775520"/>
                  <a:ext cx="349164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r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533840" y="1775520"/>
                  <a:ext cx="3687480" cy="55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768600" y="2327400"/>
                <a:ext cx="3764880" cy="552240"/>
                <a:chOff x="768600" y="2327400"/>
                <a:chExt cx="3764880" cy="5522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866160" y="2327400"/>
                  <a:ext cx="3569040" cy="55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utoOpe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68600" y="2327400"/>
                  <a:ext cx="3764880" cy="55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4533840" y="2327400"/>
                <a:ext cx="3687480" cy="552240"/>
                <a:chOff x="4533840" y="2327400"/>
                <a:chExt cx="3687480" cy="5522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631400" y="2327400"/>
                  <a:ext cx="3491640" cy="55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533840" y="2327400"/>
                  <a:ext cx="3687480" cy="55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768600" y="2880000"/>
                <a:ext cx="3764880" cy="551880"/>
                <a:chOff x="768600" y="2880000"/>
                <a:chExt cx="3764880" cy="5518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866160" y="2880000"/>
                  <a:ext cx="356904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utoRewin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68600" y="2880000"/>
                  <a:ext cx="3764880" cy="55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533840" y="2880000"/>
                <a:ext cx="3687480" cy="551880"/>
                <a:chOff x="4533840" y="2880000"/>
                <a:chExt cx="3687480" cy="5518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631400" y="2880000"/>
                  <a:ext cx="349164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r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533840" y="2880000"/>
                  <a:ext cx="3687480" cy="55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768600" y="3431880"/>
                <a:ext cx="3764880" cy="678600"/>
                <a:chOff x="768600" y="3431880"/>
                <a:chExt cx="3764880" cy="67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866160" y="3431880"/>
                  <a:ext cx="3569040" cy="67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nableButtons. btRecor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nableButtons. btEje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68600" y="3431880"/>
                  <a:ext cx="3764880" cy="678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533840" y="3431880"/>
                <a:ext cx="3687480" cy="678600"/>
                <a:chOff x="4533840" y="3431880"/>
                <a:chExt cx="3687480" cy="6786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631400" y="3431880"/>
                  <a:ext cx="3491640" cy="67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br>
                    <a:rPr sz="2000"/>
                  </a:b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533840" y="3431880"/>
                  <a:ext cx="3687480" cy="678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768600" y="4110840"/>
                <a:ext cx="3764880" cy="552240"/>
                <a:chOff x="768600" y="4110840"/>
                <a:chExt cx="3764880" cy="5522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66160" y="4110840"/>
                  <a:ext cx="3569040" cy="55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eviceTyp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8600" y="4110840"/>
                  <a:ext cx="3764880" cy="55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533840" y="4110840"/>
                <a:ext cx="3687480" cy="552240"/>
                <a:chOff x="4533840" y="4110840"/>
                <a:chExt cx="3687480" cy="5522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631400" y="4110840"/>
                  <a:ext cx="3491640" cy="55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tAutoSele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533840" y="4110840"/>
                  <a:ext cx="3687480" cy="55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768600" y="4663080"/>
                <a:ext cx="3764880" cy="551880"/>
                <a:chOff x="768600" y="4663080"/>
                <a:chExt cx="3764880" cy="5518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866160" y="4663080"/>
                  <a:ext cx="356904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ispla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68600" y="4663080"/>
                  <a:ext cx="3764880" cy="55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533840" y="4663080"/>
                <a:ext cx="3687480" cy="551880"/>
                <a:chOff x="4533840" y="4663080"/>
                <a:chExt cx="3687480" cy="5518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631400" y="4663080"/>
                  <a:ext cx="349164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leContainer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533840" y="4663080"/>
                  <a:ext cx="3687480" cy="55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768600" y="5215320"/>
                <a:ext cx="3764880" cy="551880"/>
                <a:chOff x="768600" y="5215320"/>
                <a:chExt cx="3764880" cy="5518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866160" y="5215320"/>
                  <a:ext cx="356904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imeForma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8600" y="5215320"/>
                  <a:ext cx="3764880" cy="55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533840" y="5215320"/>
                <a:ext cx="3687480" cy="551880"/>
                <a:chOff x="4533840" y="5215320"/>
                <a:chExt cx="3687480" cy="5518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631400" y="5215320"/>
                  <a:ext cx="349164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fMilliSecond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533840" y="5215320"/>
                  <a:ext cx="3687480" cy="55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768600" y="5767200"/>
                <a:ext cx="3764880" cy="551880"/>
                <a:chOff x="768600" y="5767200"/>
                <a:chExt cx="3764880" cy="5518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866160" y="5767200"/>
                  <a:ext cx="356904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Visib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68600" y="5767200"/>
                  <a:ext cx="3764880" cy="55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533840" y="5767200"/>
                <a:ext cx="3687480" cy="551880"/>
                <a:chOff x="4533840" y="5767200"/>
                <a:chExt cx="3687480" cy="5518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631400" y="5767200"/>
                  <a:ext cx="349164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533840" y="5767200"/>
                  <a:ext cx="3687480" cy="55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" name=""/>
            <p:cNvSpPr/>
            <p:nvPr/>
          </p:nvSpPr>
          <p:spPr>
            <a:xfrm>
              <a:off x="762120" y="1219320"/>
              <a:ext cx="7467120" cy="510516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2489400" y="609480"/>
            <a:ext cx="40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diaPlay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属性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672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7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2500200" cy="35434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90720" y="54100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-6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ediaplayer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控件布尔值设置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0996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8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257800" y="541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-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ediaplayer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播放的设备类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1066680" y="2362320"/>
            <a:ext cx="6933960" cy="2977920"/>
            <a:chOff x="1066680" y="2362320"/>
            <a:chExt cx="6933960" cy="2977920"/>
          </a:xfrm>
        </p:grpSpPr>
        <p:grpSp>
          <p:nvGrpSpPr>
            <p:cNvPr id="335" name=""/>
            <p:cNvGrpSpPr/>
            <p:nvPr/>
          </p:nvGrpSpPr>
          <p:grpSpPr>
            <a:xfrm>
              <a:off x="1072800" y="2367000"/>
              <a:ext cx="6920640" cy="2968560"/>
              <a:chOff x="1072800" y="2367000"/>
              <a:chExt cx="6920640" cy="296856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1072800" y="2367000"/>
                <a:ext cx="2981160" cy="593640"/>
                <a:chOff x="1072800" y="2367000"/>
                <a:chExt cx="2981160" cy="593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162800" y="2367000"/>
                  <a:ext cx="2801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取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072800" y="2367000"/>
                  <a:ext cx="2981160" cy="593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054320" y="2367000"/>
                <a:ext cx="3939120" cy="593640"/>
                <a:chOff x="4054320" y="2367000"/>
                <a:chExt cx="3939120" cy="5936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144320" y="2367000"/>
                  <a:ext cx="375948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意义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054320" y="2367000"/>
                  <a:ext cx="3939120" cy="593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1072800" y="2960640"/>
                <a:ext cx="2981160" cy="593640"/>
                <a:chOff x="1072800" y="2960640"/>
                <a:chExt cx="2981160" cy="5936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162800" y="2960640"/>
                  <a:ext cx="2801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fMilliSecond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072800" y="2960640"/>
                  <a:ext cx="2981160" cy="593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054320" y="2960640"/>
                <a:ext cx="3939120" cy="593640"/>
                <a:chOff x="4054320" y="2960640"/>
                <a:chExt cx="3939120" cy="5936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144320" y="2960640"/>
                  <a:ext cx="375948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以毫秒来计算长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054320" y="2960640"/>
                  <a:ext cx="3939120" cy="593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1072800" y="3554280"/>
                <a:ext cx="2981160" cy="594000"/>
                <a:chOff x="1072800" y="3554280"/>
                <a:chExt cx="2981160" cy="5940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162800" y="3554280"/>
                  <a:ext cx="28015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fHM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072800" y="3554280"/>
                  <a:ext cx="2981160" cy="59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4054320" y="3554280"/>
                <a:ext cx="3939120" cy="594000"/>
                <a:chOff x="4054320" y="3554280"/>
                <a:chExt cx="3939120" cy="5940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4144320" y="3554280"/>
                  <a:ext cx="375948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以小时分钟秒的方式计算长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054320" y="3554280"/>
                  <a:ext cx="3939120" cy="59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1072800" y="4148280"/>
                <a:ext cx="2981160" cy="593640"/>
                <a:chOff x="1072800" y="4148280"/>
                <a:chExt cx="2981160" cy="5936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1162800" y="4148280"/>
                  <a:ext cx="2801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fM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072800" y="4148280"/>
                  <a:ext cx="2981160" cy="593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4054320" y="4148280"/>
                <a:ext cx="3939120" cy="593640"/>
                <a:chOff x="4054320" y="4148280"/>
                <a:chExt cx="3939120" cy="5936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4144320" y="4148280"/>
                  <a:ext cx="375948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以分钟秒帧计算长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054320" y="4148280"/>
                  <a:ext cx="3939120" cy="593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072800" y="4741920"/>
                <a:ext cx="2981160" cy="593640"/>
                <a:chOff x="1072800" y="4741920"/>
                <a:chExt cx="2981160" cy="5936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162800" y="4741920"/>
                  <a:ext cx="2801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fFram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72800" y="4741920"/>
                  <a:ext cx="2981160" cy="593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054320" y="4741920"/>
                <a:ext cx="3939120" cy="593640"/>
                <a:chOff x="4054320" y="4741920"/>
                <a:chExt cx="3939120" cy="5936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144320" y="4741920"/>
                  <a:ext cx="375948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以帧数计算长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054320" y="4741920"/>
                  <a:ext cx="3939120" cy="593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>
              <a:off x="1066680" y="2362320"/>
              <a:ext cx="6933960" cy="297792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286000" y="1600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7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meForma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部分取值及意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80988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10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657600" cy="31543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82880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diaplayer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选择的映像控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98160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anel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124080" y="1600200"/>
            <a:ext cx="2840040" cy="350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600200" y="5410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9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ne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36000" y="638280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604800"/>
            <a:ext cx="7201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5.3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　制作图片浏览器实例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5786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5.3.1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窗体及其控件的布局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-279360">
              <a:lnSpc>
                <a:spcPct val="15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5.3.2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控件的属性设置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-279360">
              <a:lnSpc>
                <a:spcPct val="15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5.3.3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为控件添加事件驱动程序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-279360">
              <a:lnSpc>
                <a:spcPct val="15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5.3.4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图片浏览及其保存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1900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5.3.1  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窗体及其控件的布局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690200"/>
            <a:ext cx="68580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创建一个新的项目。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在主窗体中放置一个映像控件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Image1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放置一个打开文件对话框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Opendialog1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用于打开图片文件的路径搜索。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放置一个保存文件对话框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Savedialog1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用于对图片进行保存。  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放置一个容器控件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Bevel1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用于衬托两个按钮。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放置一个面板控件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Panel1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用于说明图片浏览器。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放置两个按钮控件，一个用于打开图片，另一个用于保存图片。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其窗体及其控件布局如图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84328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11" descr=""/>
          <p:cNvPicPr/>
          <p:nvPr/>
        </p:nvPicPr>
        <p:blipFill>
          <a:blip r:embed="rId1"/>
          <a:srcRect l="0" t="0" r="0" b="31231"/>
          <a:stretch/>
        </p:blipFill>
        <p:spPr>
          <a:xfrm>
            <a:off x="1600200" y="1905120"/>
            <a:ext cx="5614920" cy="2784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905120" y="5181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1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片浏览器的窗体及控件布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236000" y="638280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69724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5.3.2  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控件的属性设置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346880" cy="25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本范例所使用的控件属性设置如表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5-1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Image1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Opendialog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Savedialog1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280" y="604800"/>
            <a:ext cx="75819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5.1  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动画控件</a:t>
            </a:r>
            <a:r>
              <a:rPr b="1" lang="en-US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Animate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的使用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6172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00"/>
                </a:solidFill>
                <a:uFillTx/>
                <a:latin typeface="华文楷体"/>
                <a:ea typeface="宋体"/>
                <a:hlinkClick r:id="rId1" action="ppaction://hlinksldjump"/>
              </a:rPr>
              <a:t>5.1.1  动画控件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华文楷体"/>
                <a:ea typeface="宋体"/>
                <a:hlinkClick r:id="rId2" action="ppaction://hlinksldjump"/>
              </a:rPr>
              <a:t>Animate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华文楷体"/>
                <a:ea typeface="宋体"/>
                <a:hlinkClick r:id="rId3" action="ppaction://hlinksldjump"/>
              </a:rPr>
              <a:t>功能简介	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00"/>
                </a:solidFill>
                <a:uFillTx/>
                <a:latin typeface="华文楷体"/>
                <a:ea typeface="宋体"/>
                <a:hlinkClick r:id="rId4" action="ppaction://hlinksldjump"/>
              </a:rPr>
              <a:t>5.1.2  使用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华文楷体"/>
                <a:ea typeface="宋体"/>
                <a:hlinkClick r:id="rId5" action="ppaction://hlinksldjump"/>
              </a:rPr>
              <a:t>Animate</a:t>
            </a:r>
            <a:r>
              <a:rPr b="1" lang="zh-CN" sz="2800" spc="-1" strike="noStrike" u="sng">
                <a:solidFill>
                  <a:srgbClr val="333300"/>
                </a:solidFill>
                <a:uFillTx/>
                <a:latin typeface="华文楷体"/>
                <a:ea typeface="宋体"/>
                <a:hlinkClick r:id="rId6" action="ppaction://hlinksldjump"/>
              </a:rPr>
              <a:t>控件实现动画播放的实例程序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90920" y="1447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10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控件属性设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2133720"/>
            <a:ext cx="7238520" cy="3809880"/>
            <a:chOff x="990720" y="2133720"/>
            <a:chExt cx="7238520" cy="3809880"/>
          </a:xfrm>
        </p:grpSpPr>
        <p:grpSp>
          <p:nvGrpSpPr>
            <p:cNvPr id="389" name=""/>
            <p:cNvGrpSpPr/>
            <p:nvPr/>
          </p:nvGrpSpPr>
          <p:grpSpPr>
            <a:xfrm>
              <a:off x="996840" y="2138040"/>
              <a:ext cx="7225200" cy="3800160"/>
              <a:chOff x="996840" y="2138040"/>
              <a:chExt cx="7225200" cy="380016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996840" y="2138040"/>
                <a:ext cx="3575880" cy="587880"/>
                <a:chOff x="996840" y="2138040"/>
                <a:chExt cx="3575880" cy="5878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1088640" y="2138040"/>
                  <a:ext cx="3392280" cy="58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996840" y="2138040"/>
                  <a:ext cx="3575880" cy="587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4573080" y="2138040"/>
                <a:ext cx="3648960" cy="587880"/>
                <a:chOff x="4573080" y="2138040"/>
                <a:chExt cx="3648960" cy="5878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4664880" y="2138040"/>
                  <a:ext cx="3464640" cy="58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573080" y="2138040"/>
                  <a:ext cx="3648960" cy="587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96840" y="2725920"/>
                <a:ext cx="3575880" cy="723600"/>
                <a:chOff x="996840" y="2725920"/>
                <a:chExt cx="3575880" cy="7236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88640" y="2725920"/>
                  <a:ext cx="339228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mage1.Cen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mage1.Strec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96840" y="2725920"/>
                  <a:ext cx="3575880" cy="723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573080" y="2725920"/>
                <a:ext cx="3648960" cy="723600"/>
                <a:chOff x="4573080" y="2725920"/>
                <a:chExt cx="3648960" cy="7236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4664880" y="2725920"/>
                  <a:ext cx="346464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r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r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573080" y="2725920"/>
                  <a:ext cx="3648960" cy="723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996840" y="3449880"/>
                <a:ext cx="3575880" cy="587880"/>
                <a:chOff x="996840" y="3449880"/>
                <a:chExt cx="3575880" cy="5878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1088640" y="3449880"/>
                  <a:ext cx="3392280" cy="58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pendialog1.Fil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996840" y="3449880"/>
                  <a:ext cx="3575880" cy="587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4573080" y="3449880"/>
                <a:ext cx="3648960" cy="587880"/>
                <a:chOff x="4573080" y="3449880"/>
                <a:chExt cx="3648960" cy="5878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4664880" y="3449880"/>
                  <a:ext cx="3464640" cy="58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itmaps(*.bmp)|*.bm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573080" y="3449880"/>
                  <a:ext cx="3648960" cy="587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996840" y="4038120"/>
                <a:ext cx="3575880" cy="587880"/>
                <a:chOff x="996840" y="4038120"/>
                <a:chExt cx="3575880" cy="58788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1088640" y="4038120"/>
                  <a:ext cx="3392280" cy="58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avedialog1Fil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996840" y="4038120"/>
                  <a:ext cx="3575880" cy="587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4573080" y="4038120"/>
                <a:ext cx="3648960" cy="587880"/>
                <a:chOff x="4573080" y="4038120"/>
                <a:chExt cx="3648960" cy="58788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4664880" y="4038120"/>
                  <a:ext cx="3464640" cy="58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itmaps(*.bmp)|*.bm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573080" y="4038120"/>
                  <a:ext cx="3648960" cy="587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96840" y="4626360"/>
                <a:ext cx="3575880" cy="587880"/>
                <a:chOff x="996840" y="4626360"/>
                <a:chExt cx="3575880" cy="58788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88640" y="4626360"/>
                  <a:ext cx="3392280" cy="58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anel1.Cap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96840" y="4626360"/>
                  <a:ext cx="3575880" cy="587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573080" y="4626360"/>
                <a:ext cx="3648960" cy="587880"/>
                <a:chOff x="4573080" y="4626360"/>
                <a:chExt cx="3648960" cy="58788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664880" y="4626360"/>
                  <a:ext cx="3464640" cy="58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‘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欢迎使用图片浏览器’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573080" y="4626360"/>
                  <a:ext cx="3648960" cy="587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996840" y="5214600"/>
                <a:ext cx="3575880" cy="723600"/>
                <a:chOff x="996840" y="5214600"/>
                <a:chExt cx="3575880" cy="7236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088640" y="5214600"/>
                  <a:ext cx="339228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utton1.Cap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utton21.Cap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996840" y="5214600"/>
                  <a:ext cx="3575880" cy="723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4573080" y="5214600"/>
                <a:ext cx="3648960" cy="723600"/>
                <a:chOff x="4573080" y="5214600"/>
                <a:chExt cx="3648960" cy="7236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4664880" y="5214600"/>
                  <a:ext cx="346464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打开文件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保存文件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573080" y="5214600"/>
                  <a:ext cx="3648960" cy="723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6" name=""/>
            <p:cNvSpPr/>
            <p:nvPr/>
          </p:nvSpPr>
          <p:spPr>
            <a:xfrm>
              <a:off x="990720" y="2133720"/>
              <a:ext cx="7238520" cy="380988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7236000" y="638280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47640" y="604800"/>
            <a:ext cx="72770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5.3.3  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为控件添加事件驱动程序</a:t>
            </a: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81080" y="1901520"/>
            <a:ext cx="63388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）“打开文件”按钮的事件驱动程序。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）“保存文件”按钮的事件驱动程序。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30" name=""/>
          <p:cNvSpPr/>
          <p:nvPr/>
        </p:nvSpPr>
        <p:spPr>
          <a:xfrm>
            <a:off x="7236000" y="638280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47640" y="452520"/>
            <a:ext cx="8190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5.3.4  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图片浏览及其保存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57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对于已经制作的简易图片浏览器，可以进行试运行：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）按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F9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键运行。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）单击“打开文件”按钮，出现一个文件路径搜索框如图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5-1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）找到浏览的图片文件，其显示效果如图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5-1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36708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12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396040" cy="27306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371600" y="51814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图片文件搜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35268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13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495680" cy="27925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981080" y="5181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程序运行效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36000" y="638280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1676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6600"/>
                </a:solidFill>
                <a:latin typeface="Arial Narrow"/>
                <a:ea typeface="宋体"/>
              </a:rPr>
              <a:t>THANK YOU VERY MUCH </a:t>
            </a:r>
            <a:r>
              <a:rPr b="1" lang="en-US" sz="3900" spc="-1" strike="noStrike">
                <a:solidFill>
                  <a:srgbClr val="cc6600"/>
                </a:solidFill>
                <a:latin typeface="Arial Narrow"/>
                <a:ea typeface="宋体"/>
              </a:rPr>
              <a:t>！</a:t>
            </a:r>
            <a:endParaRPr b="1" lang="en-US" sz="39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6629400" cy="31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ctr">
              <a:lnSpc>
                <a:spcPct val="130000"/>
              </a:lnSpc>
              <a:spcBef>
                <a:spcPts val="405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宋体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-279360" algn="ctr">
              <a:lnSpc>
                <a:spcPct val="130000"/>
              </a:lnSpc>
              <a:spcBef>
                <a:spcPts val="405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宋体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42" name="">
            <a:hlinkClick r:id="" action="ppaction://hlinkshowjump?jump=endshow"/>
          </p:cNvPr>
          <p:cNvSpPr/>
          <p:nvPr/>
        </p:nvSpPr>
        <p:spPr>
          <a:xfrm>
            <a:off x="5257800" y="638280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1" action="ppaction://hlinksldjump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197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5.1.1  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动画控件</a:t>
            </a:r>
            <a:r>
              <a:rPr b="1" lang="en-US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Animate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功能简介</a:t>
            </a: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468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Animate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控件使用两种不同的资源：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它可以基于上面所描述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AVI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文件，通过为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FileName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属性设置相应的值就能实现。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它可以使用一种特殊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Windows 95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内部动画，这是通用控件的一部分。通过选择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CommandAVI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属性的一个可能值就能实现。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Animate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控件位于控件板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Win3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页中，如图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5-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764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" descr=""/>
          <p:cNvPicPr/>
          <p:nvPr/>
        </p:nvPicPr>
        <p:blipFill>
          <a:blip r:embed="rId1">
            <a:grayscl/>
            <a:lum contrast="6000"/>
          </a:blip>
          <a:stretch/>
        </p:blipFill>
        <p:spPr>
          <a:xfrm>
            <a:off x="762120" y="2743200"/>
            <a:ext cx="754380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im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件的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6000" y="638280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5.1.2  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使用</a:t>
            </a:r>
            <a:r>
              <a:rPr b="1" lang="en-US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Animate</a:t>
            </a:r>
            <a:r>
              <a:rPr b="1" lang="zh-CN" sz="3000" spc="-1" strike="noStrike">
                <a:solidFill>
                  <a:srgbClr val="cc6600"/>
                </a:solidFill>
                <a:latin typeface="Arial Narrow"/>
                <a:ea typeface="宋体"/>
              </a:rPr>
              <a:t>控件实现动画播放的实例程序</a:t>
            </a:r>
            <a:endParaRPr b="1" lang="en-US" sz="30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468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．向设计窗体中添加控件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5-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所示，在窗体的上半部分添加三个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TGroupBox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控件、一个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TOpenDialog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控件、七个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TButton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控件、三个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TLabe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控件、三个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TSpinEdit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控件，在窗体下半部分添加一个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TListBox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控件和一个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Animate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控件。其中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Animate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宋体"/>
              </a:rPr>
              <a:t>控件的位置应根据运行程序时，需要出现的位置来放置。 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144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715000" cy="2927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8280" y="5257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的设计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楷体_GB2312"/>
              </a:rPr>
              <a:t>．设定项目中控件的属性（见表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楷体_GB2312"/>
              </a:rPr>
              <a:t>5-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楷体_GB2312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）设置分组框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GroupBox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控件的属性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）设置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Button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控件的属性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）设置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Label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控件的属性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）设置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SpinEdit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控件的属性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见表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5-2)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）设置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ListBox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控件的属性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见表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5-3)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）设置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OpenDialog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控件的属性（见表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5-4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Animate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宋体"/>
              </a:rPr>
              <a:t>控件的常用属性和方法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62320" y="609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控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Bo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90720" y="1523880"/>
            <a:ext cx="7238520" cy="4571640"/>
            <a:chOff x="990720" y="1523880"/>
            <a:chExt cx="7238520" cy="4571640"/>
          </a:xfrm>
        </p:grpSpPr>
        <p:grpSp>
          <p:nvGrpSpPr>
            <p:cNvPr id="62" name=""/>
            <p:cNvGrpSpPr/>
            <p:nvPr/>
          </p:nvGrpSpPr>
          <p:grpSpPr>
            <a:xfrm>
              <a:off x="996840" y="1530000"/>
              <a:ext cx="7224840" cy="4557960"/>
              <a:chOff x="996840" y="1530000"/>
              <a:chExt cx="7224840" cy="455796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996840" y="1530000"/>
                <a:ext cx="1842840" cy="812160"/>
                <a:chOff x="996840" y="1530000"/>
                <a:chExt cx="1842840" cy="8121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086840" y="1530000"/>
                  <a:ext cx="1663200" cy="81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控件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96840" y="1530000"/>
                  <a:ext cx="1842840" cy="812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2840040" y="1530000"/>
                <a:ext cx="2278080" cy="812160"/>
                <a:chOff x="2840040" y="1530000"/>
                <a:chExt cx="2278080" cy="8121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2930040" y="1530000"/>
                  <a:ext cx="2098080" cy="81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2840040" y="1530000"/>
                  <a:ext cx="2278080" cy="812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5118480" y="1530000"/>
                <a:ext cx="3103200" cy="812160"/>
                <a:chOff x="5118480" y="1530000"/>
                <a:chExt cx="3103200" cy="8121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5208480" y="1530000"/>
                  <a:ext cx="2923560" cy="81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118480" y="1530000"/>
                  <a:ext cx="3103200" cy="812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996840" y="2342520"/>
                <a:ext cx="1842840" cy="1185840"/>
                <a:chOff x="996840" y="2342520"/>
                <a:chExt cx="1842840" cy="11858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1086840" y="2342520"/>
                  <a:ext cx="1663200" cy="11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GroupBox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996840" y="2342520"/>
                  <a:ext cx="1842840" cy="1185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840040" y="2342520"/>
                <a:ext cx="2278080" cy="1185840"/>
                <a:chOff x="2840040" y="2342520"/>
                <a:chExt cx="2278080" cy="11858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30040" y="2342520"/>
                  <a:ext cx="2098080" cy="11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ap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eigh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Widt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840040" y="2342520"/>
                  <a:ext cx="2278080" cy="1185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5118480" y="2342520"/>
                <a:ext cx="3103200" cy="1185840"/>
                <a:chOff x="5118480" y="2342520"/>
                <a:chExt cx="3103200" cy="1185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208480" y="2342520"/>
                  <a:ext cx="2923560" cy="11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118480" y="2342520"/>
                  <a:ext cx="3103200" cy="1185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996840" y="3528720"/>
                <a:ext cx="1842840" cy="1185840"/>
                <a:chOff x="996840" y="3528720"/>
                <a:chExt cx="1842840" cy="1185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086840" y="3528720"/>
                  <a:ext cx="1663200" cy="11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GroupBox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996840" y="3528720"/>
                  <a:ext cx="1842840" cy="1185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840040" y="3528720"/>
                <a:ext cx="2278080" cy="1185840"/>
                <a:chOff x="2840040" y="3528720"/>
                <a:chExt cx="2278080" cy="1185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930040" y="3528720"/>
                  <a:ext cx="2098080" cy="11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ap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eigh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Widt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40040" y="3528720"/>
                  <a:ext cx="2278080" cy="1185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118480" y="3528720"/>
                <a:ext cx="3103200" cy="1185840"/>
                <a:chOff x="5118480" y="3528720"/>
                <a:chExt cx="3103200" cy="1185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208480" y="3528720"/>
                  <a:ext cx="2923560" cy="11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118480" y="3528720"/>
                  <a:ext cx="3103200" cy="1185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996840" y="4715280"/>
                <a:ext cx="1842840" cy="1372680"/>
                <a:chOff x="996840" y="4715280"/>
                <a:chExt cx="1842840" cy="13726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1086840" y="4715280"/>
                  <a:ext cx="166320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GroupBox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996840" y="4715280"/>
                  <a:ext cx="1842840" cy="1372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2840040" y="4715280"/>
                <a:ext cx="2278080" cy="1372680"/>
                <a:chOff x="2840040" y="4715280"/>
                <a:chExt cx="2278080" cy="13726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2930040" y="4715280"/>
                  <a:ext cx="2098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lig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ap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eigh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Widt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840040" y="4715280"/>
                  <a:ext cx="2278080" cy="1372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5118480" y="4715280"/>
                <a:ext cx="3103200" cy="1372680"/>
                <a:chOff x="5118480" y="4715280"/>
                <a:chExt cx="3103200" cy="1372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208480" y="4715280"/>
                  <a:ext cx="292356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lTo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4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8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118480" y="4715280"/>
                  <a:ext cx="3103200" cy="1372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" name=""/>
            <p:cNvSpPr/>
            <p:nvPr/>
          </p:nvSpPr>
          <p:spPr>
            <a:xfrm>
              <a:off x="990720" y="1523880"/>
              <a:ext cx="7238520" cy="457164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8T18:28:15Z</dcterms:created>
  <dc:creator>H. James Toland III</dc:creator>
  <dc:description/>
  <dc:language>en-US</dc:language>
  <cp:lastModifiedBy>lcb</cp:lastModifiedBy>
  <dcterms:modified xsi:type="dcterms:W3CDTF">2002-03-30T08:37:03Z</dcterms:modified>
  <cp:revision>49</cp:revision>
  <dc:subject/>
  <dc:title>Introduction</dc:title>
</cp:coreProperties>
</file>